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44.jpeg" ContentType="image/jpeg"/>
  <Override PartName="/ppt/media/image38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FDA7-56D5-44DB-9382-DDC43416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404-894C-4E48-8E99-010A02F4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B1F-AB62-4842-ADDD-2EEE0F56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F85-2BCD-47F6-875F-F70E8E8C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4B99-0675-4817-A603-7B3E9A91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5F86-C872-4DA8-93F3-4C02D763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4073-347F-4D2A-A16C-CA638FDA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62D4-E525-487A-8D42-40A42524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38B7-D3C7-4A30-B5D0-B62890BF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4FD-C0E3-4C55-87D5-DC095335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EC4-6866-4C2A-AE62-B516AB01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2D3-49B2-423B-B252-27A1C5FF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25D6-E818-4413-839D-68FD723C070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404640"/>
            <a:ext cx="79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LLEGAMENTI PERMAN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IODATURE – SALDATURE – INCOLLAG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50920" y="1773360"/>
            <a:ext cx="88930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chiodature non vengono quasi più utilizzate perch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I metodi di controllo moderni consentono di utilizzare le saldature, più convenienti, che non appesantiscono i giu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La saldatura può essere fatta più agevolmente in op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chiodature richiedono una elevata precisione nel montag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chiodature vengono ancora molto utilizzate in aeronautica per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materiali compositi non possono essere sald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leghe leggere hanno il problema della “mappatur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bulloneria crea problemi aerodinamici e di sicurez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5r"/>
          <p:cNvPicPr/>
          <p:nvPr/>
        </p:nvPicPr>
        <p:blipFill>
          <a:blip r:embed="rId1"/>
          <a:stretch/>
        </p:blipFill>
        <p:spPr>
          <a:xfrm>
            <a:off x="539640" y="363600"/>
            <a:ext cx="7885080" cy="6494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0" y="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pporti tra dimensioni chiodi, spessori lamiere, posizionamento f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611280" y="4724280"/>
            <a:ext cx="792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iunti a sovrapposizione, a coprigiunto, a doppio coprigi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6r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4941720"/>
            <a:ext cx="27003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VETTI CIE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sinistra la fase di mont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destra la posizione f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71"/>
          <p:cNvPicPr/>
          <p:nvPr/>
        </p:nvPicPr>
        <p:blipFill>
          <a:blip r:embed="rId1"/>
          <a:stretch/>
        </p:blipFill>
        <p:spPr>
          <a:xfrm>
            <a:off x="0" y="0"/>
            <a:ext cx="2933640" cy="4292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72"/>
          <p:cNvPicPr/>
          <p:nvPr/>
        </p:nvPicPr>
        <p:blipFill>
          <a:blip r:embed="rId2"/>
          <a:stretch/>
        </p:blipFill>
        <p:spPr>
          <a:xfrm>
            <a:off x="3276720" y="2276640"/>
            <a:ext cx="2544480" cy="3375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73"/>
          <p:cNvPicPr/>
          <p:nvPr/>
        </p:nvPicPr>
        <p:blipFill>
          <a:blip r:embed="rId3"/>
          <a:stretch/>
        </p:blipFill>
        <p:spPr>
          <a:xfrm>
            <a:off x="2916360" y="0"/>
            <a:ext cx="2808000" cy="2130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74"/>
          <p:cNvPicPr/>
          <p:nvPr/>
        </p:nvPicPr>
        <p:blipFill>
          <a:blip r:embed="rId4"/>
          <a:stretch/>
        </p:blipFill>
        <p:spPr>
          <a:xfrm>
            <a:off x="6176880" y="0"/>
            <a:ext cx="29671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8"/>
          <p:cNvPicPr/>
          <p:nvPr/>
        </p:nvPicPr>
        <p:blipFill>
          <a:blip r:embed="rId1"/>
          <a:stretch/>
        </p:blipFill>
        <p:spPr>
          <a:xfrm>
            <a:off x="0" y="382680"/>
            <a:ext cx="8893080" cy="6475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0" y="0"/>
            <a:ext cx="896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VETTI PER USO AREONAUTICO - con identificazione del materi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9"/>
          <p:cNvPicPr/>
          <p:nvPr/>
        </p:nvPicPr>
        <p:blipFill>
          <a:blip r:embed="rId1"/>
          <a:stretch/>
        </p:blipFill>
        <p:spPr>
          <a:xfrm>
            <a:off x="539640" y="404640"/>
            <a:ext cx="768060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0"/>
          <p:cNvPicPr/>
          <p:nvPr/>
        </p:nvPicPr>
        <p:blipFill>
          <a:blip r:embed="rId1"/>
          <a:stretch/>
        </p:blipFill>
        <p:spPr>
          <a:xfrm>
            <a:off x="609480" y="949320"/>
            <a:ext cx="792504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1403280" y="26028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VETTI ESPLOS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1r"/>
          <p:cNvPicPr/>
          <p:nvPr/>
        </p:nvPicPr>
        <p:blipFill>
          <a:blip r:embed="rId1"/>
          <a:stretch/>
        </p:blipFill>
        <p:spPr>
          <a:xfrm>
            <a:off x="1258920" y="692280"/>
            <a:ext cx="55753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324000" y="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LD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620640"/>
            <a:ext cx="91440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terogena o bras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satura ( a resistenza elettrica, con saldatore ad induzione, in for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ldobrasatura ( a fiamma ossiacetilenica, ad ar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tog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plo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ltrasu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ettrica a resistenza (a punti o cucitura con rul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ettrica ad arco (idrogeno atomico, plasma, atmosfera protettiv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d arco sommerso, ad arco protet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as (ossidrica, ossiacetilen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uminoterm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611280" y="404640"/>
            <a:ext cx="770580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satu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mpre con metallo d’apporto bassofondente rispetto agli elementi d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untare per salvaguardia dei pezzi, per saldature ripet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cessaria buona pulizia dei pezzi da giun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zzi non devono essere a contatto altrimenti non è possibile interporre i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tallo d’ap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mperature &lt; 45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ldobrasa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parazione del giunto tipica della saldatura autoge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ghe di apporto fondenti a temperature inferiori ai metalli del gi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ottoni fondenti a temperature relativamente elevate: per la saldobrasatura dell’acciaio tra 800÷950°C, per la ghisa tra 650÷800°C, per il rame e i bronzi tra 850÷950°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8"/>
          <p:cNvSpPr/>
          <p:nvPr/>
        </p:nvSpPr>
        <p:spPr>
          <a:xfrm>
            <a:off x="0" y="1268280"/>
            <a:ext cx="255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M.A.G. (Metal Active Ga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altro ancora di uso corrente (gas argon o anidride carbonica). La saldatura MIG e MAG è anche detta a filo continu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 le saldature ad arco in atmosfera protet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.M.A.W. (Gas Metal Arc Welding) che nella simbologia internazionale ha sostituito le precedenti M.I.G. (Metal Inert G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MIGMAG"/>
          <p:cNvPicPr/>
          <p:nvPr/>
        </p:nvPicPr>
        <p:blipFill>
          <a:blip r:embed="rId1"/>
          <a:stretch/>
        </p:blipFill>
        <p:spPr>
          <a:xfrm>
            <a:off x="2340000" y="1547640"/>
            <a:ext cx="6804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4067280" y="189000"/>
            <a:ext cx="46814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ecuzione di una chiodatura tradizionale con testa e controt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convenien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chiede elevata precisione di mont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4869000"/>
            <a:ext cx="7201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iodatura a caldo: necessaria per chiodi con diametro del gambo &gt; 8 m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iodatura a freddo: con ribatti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1r"/>
          <p:cNvPicPr/>
          <p:nvPr/>
        </p:nvPicPr>
        <p:blipFill>
          <a:blip r:embed="rId1"/>
          <a:stretch/>
        </p:blipFill>
        <p:spPr>
          <a:xfrm>
            <a:off x="0" y="836640"/>
            <a:ext cx="3924360" cy="28652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25092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inserzione del ch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 ricalcatura della controt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0" y="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IG (Tungsten Inert Gas): viene utilizzato per saldare acciai comuni ma anche per acciai inossidabili, inconel, monel, rame e sue leghe. Elettrodo di tungsteno, gas di protezione elio, argo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mig2"/>
          <p:cNvPicPr/>
          <p:nvPr/>
        </p:nvPicPr>
        <p:blipFill>
          <a:blip r:embed="rId1"/>
          <a:stretch/>
        </p:blipFill>
        <p:spPr>
          <a:xfrm>
            <a:off x="5003640" y="4459320"/>
            <a:ext cx="4140360" cy="2398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ig2"/>
          <p:cNvPicPr/>
          <p:nvPr/>
        </p:nvPicPr>
        <p:blipFill>
          <a:blip r:embed="rId2"/>
          <a:stretch/>
        </p:blipFill>
        <p:spPr>
          <a:xfrm>
            <a:off x="0" y="1844640"/>
            <a:ext cx="5003640" cy="4294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5364000" y="2708280"/>
            <a:ext cx="3780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G-M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539640" y="404640"/>
            <a:ext cx="8064720" cy="49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AZIONI SALDATURA PER FUSIONE A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amma ossiacetile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+ 5/2 O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2CO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amma ossidr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+ 1/2 O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it-IT" sz="2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ossigeno è fornito dall’ambiente ma soprattutto dalla bombola. La fiamma ossidriga sviluppa principalmente vapore acqueo. L’uso delle fiamme è per la saldatura (non industriale), per la saldobrasatura, per il taglio alla fiam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14r"/>
          <p:cNvPicPr/>
          <p:nvPr/>
        </p:nvPicPr>
        <p:blipFill>
          <a:blip r:embed="rId1"/>
          <a:stretch/>
        </p:blipFill>
        <p:spPr>
          <a:xfrm>
            <a:off x="0" y="0"/>
            <a:ext cx="9144000" cy="5616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468360" y="5516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ldatura ad arco elettrico (con elettrodo a perd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3635280" y="0"/>
            <a:ext cx="550872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TTRODO RIVESTITO (o a perde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metallo d’apporto all’interno dell’elettr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TTRODO DI TUNGST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tallo d’apporto a p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UNZIONI ELETTR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viluppare gas che proteggono da ossidazione e ionizzanti per condurre corrente elettrica e stabilizzare l’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ortare elementi che migliorano le caratteristiche del giunto ed abbassano leggermente la temperatura di fu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mazione di scoria fusa che protegge il gi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5r"/>
          <p:cNvPicPr/>
          <p:nvPr/>
        </p:nvPicPr>
        <p:blipFill>
          <a:blip r:embed="rId1"/>
          <a:stretch/>
        </p:blipFill>
        <p:spPr>
          <a:xfrm>
            <a:off x="0" y="0"/>
            <a:ext cx="363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6"/>
          <p:cNvPicPr/>
          <p:nvPr/>
        </p:nvPicPr>
        <p:blipFill>
          <a:blip r:embed="rId1"/>
          <a:stretch/>
        </p:blipFill>
        <p:spPr>
          <a:xfrm>
            <a:off x="13320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7"/>
          <p:cNvPicPr/>
          <p:nvPr/>
        </p:nvPicPr>
        <p:blipFill>
          <a:blip r:embed="rId1"/>
          <a:stretch/>
        </p:blipFill>
        <p:spPr>
          <a:xfrm>
            <a:off x="140328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18"/>
          <p:cNvPicPr/>
          <p:nvPr/>
        </p:nvPicPr>
        <p:blipFill>
          <a:blip r:embed="rId1"/>
          <a:stretch/>
        </p:blipFill>
        <p:spPr>
          <a:xfrm>
            <a:off x="1692360" y="0"/>
            <a:ext cx="536400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19"/>
          <p:cNvPicPr/>
          <p:nvPr/>
        </p:nvPicPr>
        <p:blipFill>
          <a:blip r:embed="rId1"/>
          <a:stretch/>
        </p:blipFill>
        <p:spPr>
          <a:xfrm>
            <a:off x="0" y="765000"/>
            <a:ext cx="5248440" cy="5301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5651640" y="1989000"/>
            <a:ext cx="2808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aldatura a punti (tipica delle carrozzerie auto, elettrodomesti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20"/>
          <p:cNvPicPr/>
          <p:nvPr/>
        </p:nvPicPr>
        <p:blipFill>
          <a:blip r:embed="rId1"/>
          <a:stretch/>
        </p:blipFill>
        <p:spPr>
          <a:xfrm>
            <a:off x="0" y="0"/>
            <a:ext cx="83170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4356000" y="333360"/>
            <a:ext cx="478800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PERAZIONI CHIOD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anfrinatura: svasatura della parte esterna del foro per adeguarlo alla geometria del chi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serzione chi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alc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3r"/>
          <p:cNvPicPr/>
          <p:nvPr/>
        </p:nvPicPr>
        <p:blipFill>
          <a:blip r:embed="rId1"/>
          <a:stretch/>
        </p:blipFill>
        <p:spPr>
          <a:xfrm>
            <a:off x="0" y="0"/>
            <a:ext cx="4181400" cy="6093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635280" y="3357720"/>
            <a:ext cx="5508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iodatura a caldo: buona tenuta verticale per la compressione generata, l’attrito tra le lamiere evita il rischio di traslazioni per i vuoti che si possono creare nel ritiro del metallo del ch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) Chiodatura a freddo: buona tenuta alla traslazione per l’attrito generato nella ricalcatura del chiodo sia tra le lamiere che tra chiodo e cavità cilind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189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RAS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620640"/>
            <a:ext cx="4572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mpi tipici di brasat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satura di componenti elettrici ed elettronici in rame con stag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satura di tubazioni in rame con ott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satura degli inserti in metallo duro sugli utensili per le lavorazioni meccaniche per asportazione di truci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ttp://www.spiega.com/pict/circuito_stampato.jpg"/>
          <p:cNvPicPr/>
          <p:nvPr/>
        </p:nvPicPr>
        <p:blipFill>
          <a:blip r:embed="rId1"/>
          <a:stretch/>
        </p:blipFill>
        <p:spPr>
          <a:xfrm>
            <a:off x="4932360" y="189000"/>
            <a:ext cx="3672000" cy="2868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http://www.italbras.it/download/BT/news/Lega%20brasante%20CuP%20big.JPG"/>
          <p:cNvPicPr/>
          <p:nvPr/>
        </p:nvPicPr>
        <p:blipFill>
          <a:blip r:embed="rId2"/>
          <a:stretch/>
        </p:blipFill>
        <p:spPr>
          <a:xfrm>
            <a:off x="324000" y="3213000"/>
            <a:ext cx="377172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/>
          <p:cNvPicPr/>
          <p:nvPr/>
        </p:nvPicPr>
        <p:blipFill>
          <a:blip r:embed="rId3"/>
          <a:stretch/>
        </p:blipFill>
        <p:spPr>
          <a:xfrm>
            <a:off x="395280" y="5877000"/>
            <a:ext cx="3552840" cy="8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http://thumbs4.ebaystatic.com/m/ml9vg-NQHJsIeBkNn3b2sLQ/140.jpg"/>
          <p:cNvPicPr/>
          <p:nvPr/>
        </p:nvPicPr>
        <p:blipFill>
          <a:blip r:embed="rId4"/>
          <a:stretch/>
        </p:blipFill>
        <p:spPr>
          <a:xfrm>
            <a:off x="4859280" y="3716280"/>
            <a:ext cx="40370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1"/>
          <p:cNvPicPr/>
          <p:nvPr/>
        </p:nvPicPr>
        <p:blipFill>
          <a:blip r:embed="rId1"/>
          <a:stretch/>
        </p:blipFill>
        <p:spPr>
          <a:xfrm>
            <a:off x="0" y="0"/>
            <a:ext cx="32734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3635280" y="486900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PARAZIONE DEI LEM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564000" y="404640"/>
            <a:ext cx="439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SALDATURA E’ CARATTERIZZATA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ipo di gi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ma della saldatura e del cor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mensioni del cor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cesso utilizz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2"/>
          <p:cNvPicPr/>
          <p:nvPr/>
        </p:nvPicPr>
        <p:blipFill>
          <a:blip r:embed="rId1"/>
          <a:stretch/>
        </p:blipFill>
        <p:spPr>
          <a:xfrm>
            <a:off x="0" y="27000"/>
            <a:ext cx="5181480" cy="6831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435640" y="3333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IPI DI GI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51640" y="1916280"/>
            <a:ext cx="2808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ma del cor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v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ca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26"/>
          <p:cNvPicPr/>
          <p:nvPr/>
        </p:nvPicPr>
        <p:blipFill>
          <a:blip r:embed="rId2"/>
          <a:stretch/>
        </p:blipFill>
        <p:spPr>
          <a:xfrm>
            <a:off x="5292720" y="3754440"/>
            <a:ext cx="36003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23"/>
          <p:cNvPicPr/>
          <p:nvPr/>
        </p:nvPicPr>
        <p:blipFill>
          <a:blip r:embed="rId1"/>
          <a:stretch/>
        </p:blipFill>
        <p:spPr>
          <a:xfrm>
            <a:off x="31680" y="333360"/>
            <a:ext cx="911232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24"/>
          <p:cNvPicPr/>
          <p:nvPr/>
        </p:nvPicPr>
        <p:blipFill>
          <a:blip r:embed="rId1"/>
          <a:stretch/>
        </p:blipFill>
        <p:spPr>
          <a:xfrm>
            <a:off x="0" y="260280"/>
            <a:ext cx="903924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7020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27"/>
          <p:cNvPicPr/>
          <p:nvPr/>
        </p:nvPicPr>
        <p:blipFill>
          <a:blip r:embed="rId1"/>
          <a:stretch/>
        </p:blipFill>
        <p:spPr>
          <a:xfrm>
            <a:off x="0" y="0"/>
            <a:ext cx="46753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8"/>
          <p:cNvPicPr/>
          <p:nvPr/>
        </p:nvPicPr>
        <p:blipFill>
          <a:blip r:embed="rId1"/>
          <a:stretch/>
        </p:blipFill>
        <p:spPr>
          <a:xfrm>
            <a:off x="0" y="0"/>
            <a:ext cx="635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29"/>
          <p:cNvPicPr/>
          <p:nvPr/>
        </p:nvPicPr>
        <p:blipFill>
          <a:blip r:embed="rId1"/>
          <a:stretch/>
        </p:blipFill>
        <p:spPr>
          <a:xfrm>
            <a:off x="0" y="0"/>
            <a:ext cx="908856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30"/>
          <p:cNvPicPr/>
          <p:nvPr/>
        </p:nvPicPr>
        <p:blipFill>
          <a:blip r:embed="rId1"/>
          <a:stretch/>
        </p:blipFill>
        <p:spPr>
          <a:xfrm>
            <a:off x="0" y="0"/>
            <a:ext cx="651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0"/>
            <a:ext cx="38512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atura medi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panatura: per chiodi di piccole dimens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nzonatura: per lamiere sotti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esatura: per fori di grandi dimensioni (oltre 12-16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fresa"/>
          <p:cNvPicPr/>
          <p:nvPr/>
        </p:nvPicPr>
        <p:blipFill>
          <a:blip r:embed="rId1"/>
          <a:stretch/>
        </p:blipFill>
        <p:spPr>
          <a:xfrm>
            <a:off x="4284720" y="4581360"/>
            <a:ext cx="2952720" cy="209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trapano"/>
          <p:cNvPicPr/>
          <p:nvPr/>
        </p:nvPicPr>
        <p:blipFill>
          <a:blip r:embed="rId2"/>
          <a:stretch/>
        </p:blipFill>
        <p:spPr>
          <a:xfrm>
            <a:off x="3851280" y="0"/>
            <a:ext cx="3313080" cy="181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punzonatrice"/>
          <p:cNvPicPr/>
          <p:nvPr/>
        </p:nvPicPr>
        <p:blipFill>
          <a:blip r:embed="rId3"/>
          <a:stretch/>
        </p:blipFill>
        <p:spPr>
          <a:xfrm>
            <a:off x="1042920" y="2708280"/>
            <a:ext cx="3792600" cy="1554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punzone"/>
          <p:cNvPicPr/>
          <p:nvPr/>
        </p:nvPicPr>
        <p:blipFill>
          <a:blip r:embed="rId4"/>
          <a:stretch/>
        </p:blipFill>
        <p:spPr>
          <a:xfrm>
            <a:off x="5796000" y="2276640"/>
            <a:ext cx="2162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32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184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1619280" y="4762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COLL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33"/>
          <p:cNvPicPr/>
          <p:nvPr/>
        </p:nvPicPr>
        <p:blipFill>
          <a:blip r:embed="rId1"/>
          <a:stretch/>
        </p:blipFill>
        <p:spPr>
          <a:xfrm>
            <a:off x="826920" y="0"/>
            <a:ext cx="7452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34"/>
          <p:cNvPicPr/>
          <p:nvPr/>
        </p:nvPicPr>
        <p:blipFill>
          <a:blip r:embed="rId1"/>
          <a:stretch/>
        </p:blipFill>
        <p:spPr>
          <a:xfrm>
            <a:off x="0" y="0"/>
            <a:ext cx="914400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35"/>
          <p:cNvPicPr/>
          <p:nvPr/>
        </p:nvPicPr>
        <p:blipFill>
          <a:blip r:embed="rId1"/>
          <a:stretch/>
        </p:blipFill>
        <p:spPr>
          <a:xfrm>
            <a:off x="1619280" y="189000"/>
            <a:ext cx="5889600" cy="4046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692360" y="450864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COLLAGGIO DI TU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36"/>
          <p:cNvPicPr/>
          <p:nvPr/>
        </p:nvPicPr>
        <p:blipFill>
          <a:blip r:embed="rId1"/>
          <a:stretch/>
        </p:blipFill>
        <p:spPr>
          <a:xfrm>
            <a:off x="0" y="0"/>
            <a:ext cx="49068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5292720" y="981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GGRAFF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50920" y="333360"/>
            <a:ext cx="813744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TERIALI PER CHIODA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fredd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ciai dolci ed extradol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ché molto dutt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ttone, rame, leghe legg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cald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ciai dolci ed extradol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ché poco tempra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ins7im8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lab_prev1"/>
          <p:cNvPicPr/>
          <p:nvPr/>
        </p:nvPicPr>
        <p:blipFill>
          <a:blip r:embed="rId1"/>
          <a:stretch/>
        </p:blipFill>
        <p:spPr>
          <a:xfrm>
            <a:off x="468360" y="189000"/>
            <a:ext cx="2484360" cy="248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lab_prev2"/>
          <p:cNvPicPr/>
          <p:nvPr/>
        </p:nvPicPr>
        <p:blipFill>
          <a:blip r:embed="rId2"/>
          <a:stretch/>
        </p:blipFill>
        <p:spPr>
          <a:xfrm>
            <a:off x="395280" y="3429000"/>
            <a:ext cx="2556000" cy="2556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0" y="602136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FC: Da 900 a 1400 gradi centigra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0" y="278136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CC: Sino a 900 gradi centigra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780000" y="1125360"/>
            <a:ext cx="50400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effetto del brusco raffreddamento la struttura tenta di modificarsi da CCC a CFC ma non riesce ad espellere gli atomi di carbo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struttura assume le dimensioni di CCC con all’interno gli atomi di carbonio, deformando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eticolo è molto resistente all’usura ed ha elevata durezza, ma meccanicamente frag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cco perché anche nella chiodatura a caldo si utilizzano acciai dolci o extradolci ovvero a basso tenore di carbonio perché poco temprabi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trimenti si rischia la fragilità del chiodo proprio nei punti più cri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3203640" y="404640"/>
            <a:ext cx="47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3419640" y="33336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ché acciai poco temprabili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5580000" y="692280"/>
            <a:ext cx="331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IODA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iodi e rivetti, normativa UNI di riferiment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4r"/>
          <p:cNvPicPr/>
          <p:nvPr/>
        </p:nvPicPr>
        <p:blipFill>
          <a:blip r:embed="rId1"/>
          <a:stretch/>
        </p:blipFill>
        <p:spPr>
          <a:xfrm>
            <a:off x="0" y="0"/>
            <a:ext cx="9144000" cy="5133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611280" y="494172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ature per chiodi (forme del fo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3:16:43Z</dcterms:created>
  <dc:creator>PELLEGRINO</dc:creator>
  <dc:description/>
  <dc:language>en-US</dc:language>
  <cp:lastModifiedBy>IPMM07</cp:lastModifiedBy>
  <dcterms:modified xsi:type="dcterms:W3CDTF">2011-05-23T10:12:26Z</dcterms:modified>
  <cp:revision>8</cp:revision>
  <dc:subject/>
  <dc:title>Diapositiva 1</dc:title>
</cp:coreProperties>
</file>